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3A2-FD3B-4A76-ABDC-002BBC0E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78D-9C94-4FE7-A3E6-D1946055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F5B-1BE2-4FEE-AB96-B6D400BC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370-7BF9-4E35-B56E-0B760B0D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F1F-55EC-4D6B-BE0C-9EF3FEE7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38B-5433-4BE0-B191-FE3085D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99D-1AF7-4FFC-A4A7-229CD286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245-B16E-4796-8094-C5451108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3E5-6111-439C-BFCC-478AF5B9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9F4-7AB7-49E4-BAB1-710BA89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FE9-81CE-4D9B-8392-9F696B02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DD8-7708-49D8-A6EE-AB6187BD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77F7-AF75-473C-91D8-8638AFAB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ncentraleurope.radio.cz/pictures/usa/socha_svobody_vlajka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ravel4america.com/wp-content/uploads/2011/05/Panama_City_Beach_Florida_USA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towleroad.typepad.com/.a/6a00d8341c730253ef0134854be99c970c-800wi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e baut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s lovet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5/29/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rican d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 to be domi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20574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114800" cy="409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n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09880" cy="4267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962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962160" cy="5105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362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ica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3124440" cy="4381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172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733920" cy="438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8288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708200"/>
            <a:ext cx="3733560" cy="446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3981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581640" cy="4387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464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4105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lapi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09880" cy="434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962520" cy="457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848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426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7:51:26Z</dcterms:created>
  <dc:creator>Administrator</dc:creator>
  <dc:description/>
  <dc:language>en-US</dc:language>
  <cp:lastModifiedBy>int_lab_201</cp:lastModifiedBy>
  <dcterms:modified xsi:type="dcterms:W3CDTF">2011-05-25T14:16:50Z</dcterms:modified>
  <cp:revision>5</cp:revision>
  <dc:subject/>
  <dc:title>Jose bautista ms lovett 05/29/11</dc:title>
</cp:coreProperties>
</file>